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6DB35A-BC3C-4524-9650-606CE4A29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48C4800-7759-45FD-AA09-C801403DA5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F38A48A-589F-4A0B-BE77-0106A9AA0C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ctually happens to the body during blood poison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epticemia is blood poisoning, what is septic arthr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3A69EF8-7FA3-4DF0-8A94-2D5FB0DB48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roper treatment, the inflammation usually clears up in about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recur and does for many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make a female susceptible to recurring infections? (poor hygiene, unprotected sex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CFDE4A5-BBF0-44BB-B6A6-C45635A699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women experience the onset of menopause between the ages of 45 and 5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opause can be induced artificially by removal of both ovaries (surgical menopau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F164FA2-9656-4AC6-91A5-45333527DE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women also experience depression, poor memory, anxiety, sleep disorders, loss of interest in s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curate diagnosis can be made with blood tests to measure if certain hormones are high and estrogen levels a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menopause be avoided? If not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BA2A844-922C-4AAB-BDE9-8FCE8D34D6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T used to be the conventional treatment for both perimenopausal and postmenopausal women to treat symptoms associated menopause and help protect against other dis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eoporosis is a common concern in menop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osteoporo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E74CF0E-1759-4EF9-B2E7-412C11EB15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hysicians still recommend use of HRT for severe cases but for shorter periods lasting from two to five years instead of the long-term use previously pr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is good since most women experience symptoms for a limited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000BCA6-AC76-4CD0-BC51-F6AF0BA7D2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c floor muscles often weaken as a result of childbirth, old age, or genetic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lapse is usually visible upon pelvic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urpose do the pelvic floor muscles serve during pregnanc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00767CE-08A0-4BFA-AE0A-6940460083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muscles and ligaments become overstretched, they cannot hold the uterus in place, so it falls or sags down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a lump or bulge on the vaginal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lapse can be so severe the cervix can bulge out of the vagina (called a complete prolaps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ical repair is often indicated for complete pro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BC3374E-71D5-4B49-BAFC-436F963F31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high fiber diet be prescribed? (less bowel strain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weight loss improve a uterine prolap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essary is a device inserted into the vagina to support the ute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is good, even with surg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49D037C-84D5-40F3-87D9-72FD8106D6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hildbirth is the cause, it may not become evident until year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B604F67-CC82-4E4A-949F-B95A85BD22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protrusion of the rectum into the vagina cause both constipation and incontin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CD8173E-6BA9-4662-A258-B3154B3DB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ck of symptoms, in most cases, contributes to the spread of the disease and delays in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4708A7A-39AB-49CA-9DA1-729FD52264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imilarities and difference between a cystocele and rectoce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se procedures are done at the same time it is called an anterior and posterior (A &amp; P) rep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52C3E1F-F0EE-4B28-A371-F5D4AB9707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rvix is the lower part of the ute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functions to allow sperm into the uterine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serves as the birth canal for a chi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F793F95-16E2-41A6-9047-406FFEDAC0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l discharge may be heavy and foul-sm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sive cervical cancer is very preventable because it has a long premalignant stage of 10 years or lon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st risk factor is not having routine Pap sm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Pap smear actually meas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79DF33F-DB1E-4823-A338-AEBDF8432A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A0359E6-53B2-4068-B00A-C3FD1B814E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ditions are associated with HPV vir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PV infection is common in individuals who have had early and frequent unprotected sex with multiple part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PV is detected in 90 percent of cervical can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among women 45 to 55 years and those over 65 who are less likely to get Pap sm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accine against HPV has been proven effective and is recommended for girls starting at age 9 and young women before first inter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3EF9262-685E-4C2B-B7DA-D17CD2BCDE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 smear obtaining cells from the cervix for testing was specifically developed to detect cervical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ellular abnormalities are detected, a colposcopy and directed biopsy of the cervical lesion is performed to confirm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5C6002B-D815-4B6D-88C9-DB3D0BCA9F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depends on the stage cancer is in when discovered: the earlier the stage, the better the pro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percent survival rate for women with stage I cancer to 15 percent with stage I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rence carries a poor prognosis of 10-15 percent one-year survival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8DAA288-338D-4F18-B8BA-DAA5B4F12C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urpose of the ovar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5748D7D-93AF-455E-A5F5-DC58E40DD4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cumulation of abdominal fluid usually occurs in later-stage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ases occur in women between the ages of 40 and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FB40B71-9092-46F8-A7D8-F4BDA285BB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ubal ligation? (form of birth control where tubes are t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family member with ovarian or breast cancer increase the risk of this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7AA4A8C-25CB-47B0-A0EA-DF80B354D1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harge may eventually subside, but the infection re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ual reason a woman seeks medical care is because of the irritating dis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A7488E0-1969-48DC-AD3D-7BE704F016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laparoscopic surgery able to view the ovar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ovaries are so deep within the pelvic area, a pelvic exam is often unable to physically identify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E6588F9-631F-4986-8B83-4D90D47DF3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urpose do the fallopian tubes serve in the bod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removal of the uterus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for those finding cancer in early stage is good (95 percent - five-year survival rat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ancers have spread outside the ovaries by diagnosis (50 percent - five-yr. survival r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ancer is found very early and woman desires to still have children, only one fallopian tube may be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09CBD2C-AC90-4DA6-BD1A-CA093108CF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8FD9003-986A-42D1-8E5A-E5DA616D0C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sts may be single or multiple, smooth or rounded and can be felt by applying slight pressure o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rness is usually more intense prior to start of menstrual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s less of a problem after menop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291A7E0-0A6F-4B99-AF5A-73981A7354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is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occurs between the ages of 30 and 5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related to normal hormonal var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urpose of the endocrine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E1B3D7E-0BE1-4387-9F15-CFE4EE19FF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some patients find improvement by eliminating caffeine, no universal means of prevention is 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known foods/drinks that contain caffe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should be encouraged to perform monthly breast self-exams and annual mammogr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2E757F7-5375-4973-97AF-DF60CC2712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during lacta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this be particularly painful if a woman was breastfeeding their chil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AA93C20-9A07-47DA-8F30-3861F6ABE6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ptom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 nodes near armpit may be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1BD47F7-FF82-480E-AC24-4C2E62C0CE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stfeeding need not cease if patient impro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warm soaks lessen the discomfo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is good with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1244DF3-1FCF-4856-972A-3F8EC28A5C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is not 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ed by physical examination and mamm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FC11BC9-E231-4A3C-B5C0-2806247848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events many individuals who may suspect they have an STD from getting treatment in a timely man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you recommend to a person who thinks he or she may have an ST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5507001-F3C3-4CAC-BF1C-5B19979963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tumors can re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revention is 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esthesia refer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708A3BA-9F18-4F9B-B961-61600B3EEC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mortality in those younger than 35 (aggressive tumor) and older than 75 (immune system less able to fight cancer and handle treatment side effec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81EE7F8-D70F-4B5D-8334-4A20D03CCD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st pain is not a common factor in breast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sign is usually a detection of a lump by palpation or mammogra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2798492-AD7C-4B35-9E0E-91AA9E2359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urces of endogenous estrogen? (younger age at start of period; older age at menopa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risk of breast cancer so much lower in males? (less sensitive to hormonal influences; male breast does not have lobu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CC6CE50-6CB7-4A94-BE4D-FE3EECE60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importance of differentiating a solid mass from a cystic one using ultrasoun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should a self-examination of the breast be per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C405350-1CBB-4EF5-87A8-7214EAB0CA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0502130-9536-4E66-9E95-CEB36E533A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depends on the stage of the disease and patient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one treatment is typically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is good if cancer has not spread to surrounding lymph n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ized breast cancer has a five-year survival rate of 96 perc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E4DD4C4-FBBC-4EC2-9BF6-EFB27DFD98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moxifen is the only FDA-approved drug for prevention of breast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FDA stand fo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ogram screening guidelines: women 40 years and older have an annual mammogram and clinical breast exam; women 20-39 years have a clinical breast exam every three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4BD176B-33B0-418A-9B79-98A17F0C60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gnosis is good if both partners receive the prescribed treat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ly one partner receives treatment, reinfection will continue to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8D92997-40BB-495C-8073-C22A4EBCDC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 five adults carries the genital HSV-2 inf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transmitted by sexual conta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16276E8-1DCE-41B6-94D0-4995286BF3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ful ulcers or blisters usually occur two to 30 days after sexual contact with an infected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dition is infectious when sores are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lesions also increase the risk of contracting AIDS during sexual cont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a condom provide adequate protection from genital herp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rriers, called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dder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n transmit the virus without symp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3C268C8-B168-436C-97DF-1E491CB453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ntigen t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best ways to avoid contracting herp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A59687A-5FC0-498F-9EE5-203ED6D6E2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wn immune system may lessen epis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much emotional stress associated with genital her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some of these stressors b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rent episodes are often triggered by fatigue and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BACAE9D-A4DD-4E93-A1B1-3E75192651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ts are usually painless but very contagi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ts appear several weeks to months after direct sexual contact with an infected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D3115AA-BCD6-4577-940B-53E8B65C70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 STDs can damage health or threaten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STD rates are among the highest in the world and gr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 four teenagers eventually gets an S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ultural and social factors contribute to the rising rate of STDs in the U.S.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9FCF751-AB8E-4900-93D4-2DEACE9FE2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rus has an incubation period of 1 to 6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 incubation period adds increased risk of passing infection to others or contracting the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HPV infection place women at higher risk for cervical cance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9F247BF-A1D9-4E7A-BAE9-FBD936A1C6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both drug and surgery treatments can remove warts, recurrence is comm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gnancy promotes the growth and spread of the le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regnancy promote the growth and spread of lesion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75825F7-14AB-487F-8077-5A04174D32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philis is on the rise in the U.S. for the first time in many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cases of syphilis be increa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9B28F21-6FA6-4B0E-8F29-5CCD8BD925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cre can appear on either the male or female genit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ic lesions can be found on the skin, lymph nodes, cardiovascular system, brain, and spinal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8856BF2-D5B9-4D04-AF61-835CB32560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location of the chancre on the head of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indicative of the first stage of syphilis before it begins to spread throughout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484FCDD-D464-436F-A267-B3E7321097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the initial chancre heal once the infection spreads to other parts of the bod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ge lasts anywhere from a few months to about a year. The infection is still contagious at this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272B0D1-1F72-4334-927C-22F006753E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infection is latent, it can give the false impression that it is no longer active or causing da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you tell a person in this latent stage about his or her syphilis infe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5ED5C69-B93F-4108-BE23-712DB4F954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consequences of untreated syphilis are so severe, early treatment is essent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philis is contracted similarly as other STDs: through sexual contact or direct contact with infected lesions or infected bodily fl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B88A989-2F39-453F-9706-2BD92D31BA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allergic to penicillin may be given alternatives such as tetracyc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reatment is not administered, consequences can include: paralysis, numbness, gradual blindness, and dement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F197E18-6DEA-41C8-8399-77AA928454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ection begins in the region of the genitals but can spread to other parts of the body if untr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ed by examination by the characteristics of the le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FD6BC1C-BA44-45BB-9F12-74088DBFFD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STD is also heightened with use of alcohol or dru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use of these substances increase risk of getting an ST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3D78F23-DCD9-489F-A83A-49DA02299B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iotic therapy usually cures the lesions and the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oms help prevent the spread of the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imilarities and differences between a chancre and chancroi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74B8133-8334-4179-96C9-C0435450AF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, the liver can become significantly impaired by hepatitis B or even cease functio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the li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FF70394-2CE1-4EBB-9A7D-E69832632F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common ways the virus is contracted is through sexual contact with an infected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exual transmission is so common, it is often associated with sexually transmitted dis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 care workers are at risk of infection from accidental needle puncture or scrat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use of a condom prevent transmission of hepatitis B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31A15DC-39B3-43CC-9EB8-46060D57E7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symptoms of acute hepatiti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hepatitis A and B diff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77B8861-7E35-4948-8C84-33A42254D0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tests for hepatitis B confirm the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ses clear up by themselves, while others go on to become chr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alcoholics often die of cirrhosis of the l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alcohol so hard on the li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67E1321-943B-4FC1-9ED3-DF5A07D4CA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become chronic carriers because the virus remains in their blood and can infect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erson can live for years with hepatitis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1380189-BCD7-4169-98E0-ED3C1A25AA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1BC02F0-E90D-4733-8A89-3AFF7BE7EA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at this lesson takes a look at some of the most common sexual dysfunctions that occur in both males and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C162D53-A54F-4D17-947B-938CEFD8CF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of discomfort and reason for the problem varies by indivi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3CE9C43-631F-4328-B02C-3801F51F13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hym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 intact hymen cause pain during intercour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 spermicide cause discomfort? (allergic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A34DE76-A14E-46D7-ACA6-F8386A9397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ymptoms may not be evident, what are the implications for spreading the disea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best way to avoid spreading an STD like chlamyd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BACD661-18D1-467E-BFAB-C0E29D7971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past sexual abuse create psychological pain for a woman during intercourse in the pres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ntervention would you suggest if this were the ca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686D471-C7B7-4F60-BD94-922D5B1017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nxiety or guilt be responsible for pain or discomfort during intercou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a male feel anxious or guilty abou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0A4E932-13AA-44C6-ACD4-E5C6A38040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ircumstances might surgery be nee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EFF2B4F-EE1D-43CA-8CF6-8A414A8F5C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common disorder that affects most men at some time during their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dition can be temporary or chr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3F5C774-8E35-432F-A901-E629A88D7F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uma to the spinal cord, pelvis, and perineum (area around scrotum and anus) may interrupt the impulse transmission between the central nervous system and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impedes the nerve response or alters the blood flow to the penis causes a failure of an er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visual image create a physically-aroused respon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AE4F2BA-22AD-41C4-8579-5C0E619438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cohol a stimulant or depress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lcohol cause ED/impot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184644A-1F1F-4C79-A64B-B7C3E9C4EC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an example of an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disease?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 family history act as a reasonable predictor of possible ED/impot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A96BABD-963E-42EB-9A8A-3F184C82EB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osterone therapy is used primarily with men who have a deficiency of the male hormone testosterone or an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nile implants and how do they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name one oral drug commonly used for impote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06A177E-8349-4664-AE5C-E996B09998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ability to conceive can originate in both males and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s of male to female reasons for infertility are nearly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754EC81-FD8F-4AE0-80D5-6BD7B5361C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perm need good motility for fertiliza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presence of an STD affect a coup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bility to conce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B97C62A-21C5-4D66-BFB9-B9B2CB9EEE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ymptoms are present, they usually begin one or two weeks after exposure and are likely to be mi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ymptoms are not present but a person suspects he or she may be infected, what should the person d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1083BAE-A9CF-4BD9-96B3-B47567F87A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ause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m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metr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sperm antibodies in vaginal secre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that compromise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failure to ovulate inhibit a woma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bility to conce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one cause common to both men and women: the presence of an S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4B4F456-A03E-4CFF-9084-550AE131E2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A711A6D-B2A0-4153-97E7-AC0CC62D17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al pregnancy?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endometriosis potentially thwart efforts at concep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F1A6ADA-A1FA-4990-94AB-FD19F6D42B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fertility drugs actually d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rtificial insemina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one-half of couples who seek treatment for infertility achieve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D60CAF7-6010-4BE1-8644-C600A04CE7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iscuss the most common disorders of the male reproductiv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AD07CAF-05EE-4758-98D7-25FE665DD7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idymitis can be a very painful cond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 naturally moves from the epididymis to the vas deferens, which is a single duct, before it is excreted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815ED85-6F07-4D10-AABC-2055454EF9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ala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irst few days, symptoms may be particularly painful and significantly hinder on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rou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65BC58A-FF5B-4657-ABC4-D85B32E9C5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factors that may predispose one to this condition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al infection associated with H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prostate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ed use of an indwelling cath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cause of epididymitis is the bacterium that also causes gonorrhea and chlamyd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rolonged use of an indwelling catheter increase on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risk of epididymit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D6C9619-036D-4160-8599-BAB6D75FEF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tient may also have an elevated white blood 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an elevated white blood count indic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5AA503A-884A-45EF-8388-DE063E2A5C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reatment is delayed, scarring may occur internally in the duct, which could lead to ster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ility is most likely to occur if the disease affects both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gnosis is good with early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reventive measure is early treatment of urinary tract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3369402-1023-460F-A728-6475DAD3FD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percent of males will show symptoms one to three weeks after expo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the burning sensation when urinating? (urethritis — inflammation of the urethra caused by infe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71EE021-ACAD-4709-BF1D-6EC842B926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testes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unction does it serve in the male reproductive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553AFF6-891C-42E4-BCBF-334FB98FD5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half the cases result in atrophy (wasting away or reduction in size) of the tes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th testicles are affected, sterility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alysis, blood tests (including serum antibody testing), or throat cultures to determine the presence of mumps are common diagnostic meas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ultrasonography to rule out testicular to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D5A6B70-DD08-4703-BDD7-669D52C65A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 who have not had the mumps should be vacc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antibiotics given to individuals with viruses such as the mum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9EA1254-4690-449A-8D5F-AA480F3B3F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associated with torsion can be so severe it can cause nausea and vom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3746CA7-47FB-4ED2-A7AA-71BCC8217E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how the spermatic cord is twisted, thereby reducing the blood flow to the tes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wisting of the spermatic cord can occur spontaneously or as a result of trau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urpose does the testicle serve in the male reproductive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6D7CA4A-3949-49E7-97E9-F488C3E6AC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imilarities do torsion and epididymitis sh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y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510D37F-11A0-47BA-AF7F-41D71798BF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nual untwisting of testicle is successful, no further treatment i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aying surgery can result in permanent damage to the tes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 untwists the testicle and stitches it into position so the problem will not re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1AD756D-F0AB-43F3-8F42-DD37C94CE4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ended veins can correctly be called varicose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varicocele result in a lower sperm count? (increased venous blood raises temperature in the scrot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dition has no apparent cause and most often occurs in the 15- to 25-year-old age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C586BFC-A599-4BA3-91BA-22C9B45BFA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scrotal support might be most effecti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ical removal of veins may improve fer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231FE93-56EF-4FD1-9961-D0E81A510C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ammation of the prostate gland is more common in men older than 5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tatitis can be caused by the same bacterium that is responsible for gonorrh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EB6C51B-4A05-4232-B4D3-F6AFE8302D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ia can be cured with a complete course of antibio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it be important for partners to abstain from intercourse until the infection is completely cu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iculous personal hygiene is also recommended to patients to avoid spreading the infection to the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4310249-74F3-4920-9B36-54D9C0B2ED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ed with a urinalysis, urine culture, and a rectal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hysician attempting to assess with the rectal exa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8FB79B9-F294-4BCF-80EB-A25E945606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ntimicrobial dru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itz bath? (A bathtub shaped like a chair in which one bathes in a sitting position, immersing only the hips and buttoc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reventive measure against prostatitis is early treatment of urinary tract infections with antibio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prostatitis can develop from recurrent urinary tract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0541773-7477-4EB5-93CB-3894FA3B7F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in men older than 50 years of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diagnosed with a rectal exam and may include a urinalysis, urine culture, cystoscopy, and urodynamic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ystoscopy and how could it be used to assess BP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7302949-F4AB-4AC3-BB2F-EF505148AF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gnosis is good with inter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of intervention may allow infection to reach kidneys and cause cystitis and dilation of the ureter, among other com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means of prevention is regular prostate examinations to detect any enlar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AF45F09-0302-4488-8C1F-C55D829668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tate cancer grows very slowly and therefore is often diagnosed and treated before condition becomes ter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ximately 3 percent of men with prostate cancer die of the cond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third-leading cause of cancer deaths in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en not know they have prostate can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832A56D-330F-485D-AE2E-33892704EF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tate cancer is often without symptom at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ymptoms are present, many are associated with urinary ob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urine flow tend to be obstructed with prostate cance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159ED4A-7A96-416A-B712-257A3DB56A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ules or irregularities on rectal exam suggest prostate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concentration of PSA also suggests prostate cancer, although a biopsy is required for a conclusive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ignant prostate tissue generates more PSA than normal tissue and, as a result, can be an important marker for diagnosing prostate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C1DF3BF-4A6D-4590-B3C9-FA0073F75F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the physical condition of the patient be a consideration in trea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risks of surgery for an older mal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32BFF45-A4E1-42EB-AD84-91640C5F79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prostatectomy carries the risk of ED/impotence and urinary incontin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stati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659473B-454A-450D-AA00-F7AD8094D5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risk of false-positive and false-negative results with the PSA 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difference between false-positive and false-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easy way to remember which is whi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509D4D9-F4D7-4BE4-9000-FE7DDE3283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50 percent of males are without symptom and may unknowingly continue to spread the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les do develop symptoms, it is usually after an incubation period of three to six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ease can also affect the eyes and throat and become syste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DA3F1BA-8F71-4138-9EDD-49DB8CE967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ptoms of advanced disease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y brea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ck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unction of the testicles? (produce sperm and primary source of male hormo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cular cancer is one of the most curable types of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in males ages 20 to 3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D48CB81-2BE5-451F-A8AA-7E6887E315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with Down syndrome and Klinefelter syndrome may be at greater risk for developing testicular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CC652ED-A0E2-4E4D-9902-CD5D5EF774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firm, hard area in the affected testis is cause for conc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psy is not usually attempted because of the risk of spreading the tu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12D7CC7-D355-461A-84AB-AF38A908A3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testicle is removed, would a male still be fertil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cular germ cell tumors are highly sensitive to chemotherapy but advanced disease may be beyond what chemotherapy can accompl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high rate of cure for testicular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13F0098-3FD4-4BA0-8DB2-DD3A0864BF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knowing the normal size and shape of the testicles help diagnose a potential probl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ould a male do if he suspects an irregularity of the testic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F9C407A-C939-4361-8D08-82F2C26B23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8B6D056-BCF9-475D-9B25-0541196D28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 number of conditions that can result when microorganisms invade the organs or tumor or cysts devel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C7C6745-E772-4FEB-8D5E-5BCFF7F21B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urposes do the ovaries 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varian cysts are physiologic and occur from puberty to menop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amed cysts can be a result of a sexually transmitted disease or an acute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8E9AF47-F4D5-499F-BF14-785B817D34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that can accompany ovarian cysts may warrant urgent medical att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welling may be due to a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is may include an ultrasound and/or a laparos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CE3EF89-7EFF-4502-8043-317D97E6AA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sts that are drained are more likely to re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ignant cysts require more serious surgery and chemotherapy. (See ovarian canc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is good if tr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FF4650D-9D3A-427D-9FDE-0B815D6727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and complete treatment usually results in a complete c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inence from sexual contact is encouraged until treatment is complete and follow-up cultures prov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069E59E-1CB0-41F4-8515-E3AC8C6501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endometrial tissue originally located? (mucous membrane that lines the uter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metriosis is considered a benign condition but can be very painful and chr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D78B16A-5F61-4609-B295-44C2381AF8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ith endometriosis are of childbearing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c scarring and adhesions can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lammation and scarring that result can cause symptoms even outside of menstruation and lead to infertility or an ectopic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CD297D2-5036-47E4-8807-F5FBAF9260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1ED0730-8805-4BFA-A7DC-E0BB92C237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is tailored to age, general health and severity of symp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 treatment is considered a more conservative approach to increase the possibility of remaining 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hysterectom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2851DD0-150B-4D44-AD7A-5BD8B5873E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D can affect all of the female reproductive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D3601A9-9079-435F-8D81-93C4A7BFAB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at risk are young, sexually active women especially those with more than one part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D is usually started by an S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 may make even walking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9DDE9BD-E854-4200-82C6-5C45C66541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ginal exam is usually painful because of swelling and inflam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any general antibiotic work for treating P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4D5F044-93FD-4F3C-83BA-9B5FB8AE78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diagnosis and prompt treatment lessens damage to the reproductiv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ammation can cause scarring and adhesions that can cause infertility and increase the risk of ectopic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E3A67F0-F22A-49A6-BCFF-ED16193524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itis is common and all age groups are at 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ction may not cause symptoms in the male, but if he is carrying it, he can reinfect the fem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menopausal women have less estrogen, which causes the vaginal lining to be thinner and more susceptible to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C50A582-407A-4305-A53B-203E9EDE4A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vulv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is is made with a pelvic exam and specimens from the vagina and cervix that are analyzed in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152280" y="635004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629920" y="653112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ABEF-DBB7-4168-A457-0F8461513B1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ter 12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eases and Conditions of the Reproductive Syste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onorrhe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ing treatment can lead to the following com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lvic inflammato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poisoning (septicem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ic arthr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gin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e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ginal antifungal/steroid c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vaginitis is contracted by sexual contact, both partners must be t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nopau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s the cessation of menstrual peri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struation discontinues due to ovaries producing less estrogen, which inhibits ov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pituitary hormone levels bring physical and psychological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nop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ctuations in menstrual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s become lighter and less frequ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 flashes/night sw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ginal dryness/skin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nop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s of management of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 research links HRT with increased rate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st c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r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cl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nop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e symptom management is sugges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ption of soy products to replace missing hormones (high in isoflav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 to strengthen bones, lower cholesterol, and help relieve vaginal dry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terine Prolap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apse of the uterus is a downward displacement of the uterus from its normal location in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terus becomes prolapsed when the pelvic floor muscles and ligaments become extremely overstretched or weak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terine Prolap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4" name="Picture 7" descr="W0256-12-18a"/>
          <p:cNvPicPr/>
          <p:nvPr/>
        </p:nvPicPr>
        <p:blipFill>
          <a:blip r:embed="rId1"/>
          <a:stretch/>
        </p:blipFill>
        <p:spPr>
          <a:xfrm>
            <a:off x="1484280" y="2178000"/>
            <a:ext cx="2276640" cy="2927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W0256-12-18b"/>
          <p:cNvPicPr/>
          <p:nvPr/>
        </p:nvPicPr>
        <p:blipFill>
          <a:blip r:embed="rId2"/>
          <a:stretch/>
        </p:blipFill>
        <p:spPr>
          <a:xfrm>
            <a:off x="4038480" y="2438280"/>
            <a:ext cx="2368800" cy="2667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W0256-12-18c"/>
          <p:cNvPicPr/>
          <p:nvPr/>
        </p:nvPicPr>
        <p:blipFill>
          <a:blip r:embed="rId3"/>
          <a:stretch/>
        </p:blipFill>
        <p:spPr>
          <a:xfrm>
            <a:off x="6566040" y="2438280"/>
            <a:ext cx="2198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terine Prolap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gel exercise to strengthen the pelvic floor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-fiber di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ion of supportive uterine device (pess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ery (for serious prolap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tocel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rusion of the rectum into the posterior portion of the va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the posterior wall of the vagina is weak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result from trauma to the area during child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tocel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earing-down fe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ntinence of gas/f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y with eliminating f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ichomonia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of the lower genitourinary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s about 15 percent of sexually activ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infected men and women are without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tocel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repair of the posterior wall of the vag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nosis is good with surgical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ervical Canc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t cell growth that is located in the cervix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ervical cancers are squamous cell carcinomas and occur in the area between the uterus and vag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ervical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 Pap smear test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y, bloody vaginal dis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eding between menstrual periods and/or after intercourse or after menop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ervical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stage symptom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lvic and lower back 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in u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inful ur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tal bl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ervical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having routine Pap sm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human papilloma virus (HPV) most often through unprotected sexual cont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socioeconomic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ervical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st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er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yoablation (removal by freez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coagulation (high-frequency electric current that destroys tiss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 st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bove plus radiation therapy and chemo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ervical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ually active women should obtain annual Pap smear and pelvic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ree consecutive normal Pap smears, screening can be less frequent as determined by do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ing can cease at age 65-70 for women with no risk fact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anc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cy of one or both ov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arian cancer accounts for more deaths than any other gynecological malignancy, because ovaries are located deep within the pelvis and disease is often asymptomatic until the advanced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largement of abdomen caused by accumulated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abdominal discom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back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egular menstrual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ful inter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, vague digestive disturb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(most diagnosed between ages of 40 and 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of breast or ovarian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that may reduc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st fe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nged use of oral contracep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bal l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ichomonia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ymptoms are present they are evidenced in both females and males and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 or painful ur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men: profuse greenish yellow discharge from the vag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, but rarely, mass is discovered during routine pelvic ex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parotomy is indicated once mass is found to confirm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or pelvic CT scans may be used to identify degree of metas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st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val of the ovaries, fallopian tubes, and ute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val of the above organs in combination with chemo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eases of the Breas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eases of the breast can range from mild to fatal and necessitate frequent screening, monthly self-examinations, and routine mammogr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hough most diseases of the breast are most common in women, men do experience diseases of the br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ystic Disease of the Breas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, benign breast disorder where lumps and cysts develop in one or both br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female breast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sts are tender when pressure is applied and some women may experience shooting pains in the breast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ystic Disease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mm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asonography may be used to determine whether lump is hollow or 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ystic Disease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fic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hysicians remove fluid (aspirate) from the cysts with a nee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recommend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aring a firm, supporting 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caffe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smo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st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 of the breast tissue that occurs during lactation following 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caused by a strep or staph infection that invades the milk ducts and creates inflammation and block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k stagnates due to blockage and produces a dull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st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found in breast post delive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ation of heat (at either beginning or end of lactation peri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s hot, doughy, and toug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 from nip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st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, supportive b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applied to the painful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esterone c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m soa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ibroadenoma of the Breas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tender benign tumor of the breast tissue that is firm, round, and encapsu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most often in late adolescence or early 2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ichomonia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 from either the male or female is typically studied for the microorganism respon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lysis may be per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vix may also be examined for the presence of small hemorrhages with a strawberry-like app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ibroadenoma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removal of the tumor under local anesth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cy of the breast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cancer and the second leading cause of cancer death among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in brea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ll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derness of br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tation or dimpling of breast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, ulceration, or retraction of nip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mmetrical app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ale (100 times more frequent in women than m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nged exposure to endogenous (from within) est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term use (&gt;5 years) of estrogen/progesterone hormone replacement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 history of breast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 u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 percent of cases are diagnosed through abnormal mammogram fi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der detected by physical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arranted, the following may also be used to confirm or clarify diagnos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p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ras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RI (contrast-enhanc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t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st x-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 scan of the abdomen, pelvis, and b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o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mpectomy (removal of tumor and some surrounding tiss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ctomy (removal of breast and nearby lymph mod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tion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e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style factors that may reduce ris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ing a baby before the age of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st feeding for at least six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ing weight 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ing alcohol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ing tamoxifen for five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ular mammogram scree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self-exa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ichomonia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infective drugs are given orally or in some cases vagin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-up examinations to ensure the infection has been elimin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ital Herp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of the skin in the genital area resulting in painful genital so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ead by direct skin-to-skin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herpes simplex virus type 2 (HSV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percentage of infections go unnoti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ital Herp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r more blister-like lesions on or around the genitals or 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ollen g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ful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ital Herp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characteristic lesions on the male or female genit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ntigen test or tissue culture may confirm the diagn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ital Herp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no c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cription drugs are routinely used to reduce the frequency and duration of outbrea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with genital herpes are at increased risk for cervical cancer and are encouraged to obtain a Pap smear every six months for scree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enital infection that causes raised cauliflower-like growths in or near the vagina or rectum or along the pe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ts are caused by the human papillomavirus (HPV) and is usually transmitted through sexual cont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nital Wart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Condylomata Acuminata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xually Transmitted Diseas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20 infectious diseases are spread by sexual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ly transmitted diseases (STDs) are spread from one person to another through bodily fluids (blood, semen, vaginal secretions) during vaginal, anal, or oral 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pread by direct contact with infected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ital War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itching or bu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mfort varies by size, number, and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ed risk 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with HPV infection are at greater risk for cervical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ital War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pical drug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yosurgery: freezing and removing affected t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desiccation: removing warts using la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genital warts disappear without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ronic, sexually transmitted infection that can affect the entire body if left unt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manifest in four s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a painless but highly contagious local lesion called a chancre (pronounced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g-ke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found on the genit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one-two months, the primary lesion heals, but the infection spreads throughout the body and can cause similar lesions any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Picture 7" descr="W0256-12-07"/>
          <p:cNvPicPr/>
          <p:nvPr/>
        </p:nvPicPr>
        <p:blipFill>
          <a:blip r:embed="rId1"/>
          <a:stretch/>
        </p:blipFill>
        <p:spPr>
          <a:xfrm>
            <a:off x="2290680" y="1465200"/>
            <a:ext cx="45626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 st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fection begins spreading systemically throughout the body and may present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hing j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uth so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shes on palms or soles of f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 st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tent period follows where the infection is without symptoms but can be transmitted in the first few years of this st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stage can last from one to 40 years and varies by per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 st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final stage, lesions (called gummas) invade the body organs and systems and cause widespread damage that can be disabling and life-threate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ured with a course of antibiotic therapy using penicillin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are monitored with follow-up blood tests for up to one year to ensure elimination of inf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ncroi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terial infection of the genitalia that causes a shallow and painless lesion on the skin or mucous membrane that appears seven to 10 days after sexual contact with an infected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time, ulcer usually deepens and oozes 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rson is at greater risk for getting 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D if he or s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sex without knowledge of partne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s drug-related nee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sex with multiple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direct skin contact with an open wound of an infected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xually Transmitted Disease Risk Facto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ncroid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ions must sometimes be drained surg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personal hyg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ain from sexual contact during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patitis B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fection of the liver that is caused by a DNA 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ease has a long incubation and symptoms may become severe or chronic, causing serious damage to the 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patitis B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transmitted b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minated blood or blood derivatives in transf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xual contact with an infected 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contaminated needles and instrum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patitis B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ig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appet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discomf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ur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y-colored bowel move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ing of the skin and eyes (jaund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patitis B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ases are self-li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cations to control nausea and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w-fat, high-carbohydrate di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triction of physic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cohol should be avoided at all costs because of its potential to strain the l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tiviral therapy for chronic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patitis B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 cases: prognosis is go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ver heals and regener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several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cases: prognosis is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lammation causes destruction of liver cells and possible liver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ter 12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sson 12.2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xual Dysfun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dysfunction is the abnormal or impaired function of sexual behavior resulting from physical and/or mental imbalances 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yspareun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s to recurrent painful or difficult sexual intercour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ccur in men and women but is more common in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yspareun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causes (wom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ct hy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fficient lubr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an ST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spermic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metri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lvic inflammato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cysts or tumors in pelvic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lamyd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most frequently reported infectious diseases in the U.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common than gonorrhea and the leading cause of pelvic inflammatory disease and sterility in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called the silent STD because it often has no sympto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yspareun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logical causes (wom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t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ual ab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rs (including fear of pregnan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x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yspareun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(m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wed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ght fore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mmation of the pro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xiety or g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yspareun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d by cause but could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lubricants during intercou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tle stretching of vaginal ope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 existing inf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psychosexual issues in couns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ctive surgery, if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ability of a man to perform sexual intercourse, usually because he is unable to attain or maintain an erection of the pe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rectile Dysfunction (ED)/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ot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D/Impot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465200"/>
            <a:ext cx="38019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r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hole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ve disorders arising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ate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5880" y="1465200"/>
            <a:ext cx="38019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logical ca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conscious gui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ual trau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ordant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xiety about 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nic fatig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D/Impot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 used to treat hypertension and 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eational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hist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ur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D/Impot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 tests to rule out organic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of testostero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history of patient and fami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chronic disease such as diabetes, hypertension heart disease, renal or vascular problem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festyle habits such as smoking, alcohol use, stress levels, and degree of sexual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D/Impot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r discontinue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osterone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logical couns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ile implants/injection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vacuum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l drug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and Female Infertilit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oluntary inability to conce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regular unprotected intercourse, about 90 percent of couples conceive within one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ose unable: approximately 40 percent can be attributed to male factors, 40 percent more to female factors, and less than 10 percent 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and Female Infert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(m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fficient number of sp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motility (movement) of sp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an STD or any infection or blo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physical conditions (genetic disorders) or injuries (radiation exposure, hormonal imbalances) that may result in ster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lamyd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symptoms are present they are evidenced in both females and males and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ck vaginal discharge with burning sen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during intercourse (dyspareun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and Female Infert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(fem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D or infection of the reproductiv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to ovul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metri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cked fallopian tu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nital structural or chromosomal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 tissue from infection, ectopic pregnancy, or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logical di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and Female Infert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l history with special attention to childhood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ough physical ex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en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and Female Infert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ting of menstrual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tests to asses hormone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 examination of fallopian tubes and uterine cavity using radiography to determine tubal pat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paroscopy may be necessary to rule out endometri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and Female Infert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es based on diagnosed problem, but commonly inclu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gery to remove block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fertility dru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ficial inse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auterine insemination (IU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vitro fertilization (IV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Reproductive Diseas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affected organ is the prostate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land can become inflamed or enlarged as a result of bacteria and cause urinary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may includ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problems (incontinence, difficulty urina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or swelling of reproductive org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ual dysfunction (ED/impote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pididym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flammation of the epididymis, which is a long convoluted tube in the sperm duct system located in the te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pididym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&amp; 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u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in or scrotal tenderness/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y 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didymis may become enlarged, tender, or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h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pididym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Ds (gonorrhea and syphil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tract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med prostate (prost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pididym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e cul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pididym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s (pain rel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inflamma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ance of alcohol and spicy f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otum support &amp;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lamyd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 from penis with burning sen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ning sensation when urin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otum may be swo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ch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chitis is an infection of the testis caus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dern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/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mal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ch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an infection from the mumps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lso be attributed to other viruses and bac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follow epididym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accompany the presence of an ST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ch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 (if infection is bacter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mps virus has no specific treatment besi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renal steroid drugs (reduces fever and swelling in severe ca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otum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rsion of the Testicl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dition where one testicle is twisted out of its normal position, causing a reduction in blood flow to the affected tes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ary symptom is sudden, severe pain in one tes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crotum becomes red, swollen, and t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 and urinary frequency may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rsion of the Testicl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1" name="Picture 7" descr="W0256-12-10"/>
          <p:cNvPicPr/>
          <p:nvPr/>
        </p:nvPicPr>
        <p:blipFill>
          <a:blip r:embed="rId1"/>
          <a:stretch/>
        </p:blipFill>
        <p:spPr>
          <a:xfrm>
            <a:off x="3225960" y="1465200"/>
            <a:ext cx="26906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rsion of the Testicl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tle physical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asound may be necessary to distinguish torsion from epididym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rsion of the Testicl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tle manipulation to untwist the tes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ery may be necessary if the above fails to correct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ricocel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eins of one testicle become abnormally distended, causing swelling around the tes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mfort (especially in hot weather or following exerc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lower sperm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ricocel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scrotal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ery may be indicated to remove distended veins if fertility is threat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or chronic inflammation of the prostate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(bacterial or nonbacterial) is the most likely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lamyd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 is given to bo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: a single inj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ed by: oral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are encouraged to abstain from intercourse until both partners are c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or burning sensation during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back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ar pain and tender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urine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icrobial penicillin and other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z b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fluid in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s (for pa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onmalignant, noninflammatory enlargement of the prostate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compress urethra and cause urinary blo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y starting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urinary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bility to empty bl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nign Prostatic Hyperplasia (BPH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nign Prostatic Hyperplas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ful wa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fluid intake before bed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medications that cause urinary retention (decongesta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herapy (to relax tightened muscles inside the prostate or shrink enlarged prostate gla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ery may be performed to remove urinary tract ob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e Canc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cy of the prostate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 (most cases occur in men over age 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dity (presence of certain ge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festyle (diet high in animal fat, low in vegetables and seleniu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hnicity (more common in African-Americ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e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or interrupted urine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y starting or stopping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re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ectile dys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e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rectal ex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test to determine level of prostate specific antigen (P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psy (indicated if PSA level is 10ng/m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e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treatment depends on several fac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A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ge of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 condition of pat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e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cal resection of the prostate (TU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e therapy (for metastatic prostate canc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tion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vention (for men 70 years or older or who have other co-existing illnes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e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screening for all men 50 years of age or older, which consis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ital rectal exa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um PSA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ither test is positive transrectal ultrasound biopsy is perfor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onorrhe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mon STD with symptoms similar to chlamy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ischarge of pus from the genital tract in both males and fe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or painful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s vary in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sticular Canc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t tumor of the tes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ule on or swelling of one tes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ll ache or heavy sensation in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disease sympto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extremity sw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rex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ne 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sticular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history of testicular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esticle that has not descended into the scro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V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sticular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examination of the testes to detect possible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cted testicular cancer may be followed b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otal ultras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 scan of abdomen and pelv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st x-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t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sticular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res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tion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sticular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ly testicular self-exam is the most reliable screen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s body awareness (allows males to assess the normal size and shape of testicl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s early detection of abnorma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ter 12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sson 12.3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emale Reproductive Diseas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male reproductive organs are susceptible to disease in two distinct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organisms can invade the organs, allowing infections to 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mors (both benign and malignant) and cysts can 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ys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id-filled semi-solid or solid masses that originate within ov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ologic cysts (those caused by normal functioning of the ov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plastic cysts (benign or malignant and not related to normal functio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ys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small and unnoticed by the 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cysts can cause urinary re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cyst produces hormones various symptoms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sts may twist on themselves causing pain, nausea and 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ys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cysts are common and seldom require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cy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drained or rem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onorrhe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 for bo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many strains of the bacteria that cause gonorrhea have become resistant to standard antibiotic therapy (tetracycline and penicillin), follow-up cultures are routinely ordered to ensure a complete c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dometri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dition in which the endometrial tissue implants outside the uterus in the pelvic cavity or in other distant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dometrio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 dysmenorrhea is a classic symp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ain and cramping in lower abdomen beginning before and lasting several days after menstr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lvic pain during inter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during defe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dometrio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hickening and bleeding in these unnatural areas (and the resulting cysts, scar tissue, and adhesions) are the cause of pain and discom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 include: family history of the disease, menstrual cycles shorter than 28 days, uterine structural abnormalities and periods lasting longer than a w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dometrio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e treatment for younger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gnancy, nursing, and menopause usually bring a remission of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ery to remove or destroy endometrial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hysterectomy with bilateral salpingo-oophorectomy may be indicated in severe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fection of a wom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pelv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self limiting to life-threa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lvic Inflammatory Disease (PID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lvic Inflammato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l-smelling vaginal dis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ful, tender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lvic Inflammato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tenderness during vaginal ex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s include elevated WBC and f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asonography may be used to identify abcess 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paroscopy is helpful to confirm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lvic Inflammato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gressive antibiotic therapy to treat disease and help prevent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out effective treatment, serious and life-threatening complications can devel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gin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flammation and/or infection of the vaginal t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al infection most common cause; or may be bacterial or protozo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vical infections may be mistaken for vagi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menopausal women are also at greater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gin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ginal dis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ching/burning sensation of the vul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may b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21:05:16Z</dcterms:created>
  <dc:creator>Gary Gilles</dc:creator>
  <dc:description/>
  <dc:language>en-US</dc:language>
  <cp:lastModifiedBy>Mary Flanagan</cp:lastModifiedBy>
  <dcterms:modified xsi:type="dcterms:W3CDTF">2011-06-21T13:16:02Z</dcterms:modified>
  <cp:revision>186</cp:revision>
  <dc:subject/>
  <dc:title>Chapter 12  Diseases and Conditions of the Reproductive System</dc:title>
</cp:coreProperties>
</file>